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606-A190-4B27-9835-112AD225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725-3030-4B2D-BA4A-73CCDCFA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FCF6D-C5E6-4683-B35D-861F7454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72A88-933E-4C68-AA71-EE31BB6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5BED8-C8E7-4D69-B8F6-26B95A6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5BA33-58B0-4979-8178-2CA69076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DD933-1BC5-4DF8-8070-DCCBC8DC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60050-974A-4D0A-AC5C-FA04939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279B7-B6F0-448B-9850-871B48FD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19255-AF49-4450-8368-31755F81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5863C-DE4E-4C1E-8D9B-81796524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3A47F-E817-4D2F-8A24-7E5C1965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D2E-AA0C-4947-A8A9-91CE9D6F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27ACB-5430-4E76-89D4-AE3D9068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77388-D7EE-40F4-B125-5EB9C12E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FD336-A114-4B9C-82E8-F15EC19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89578-47DF-4CB5-92D6-2AFBA0EF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C5EAA-F5F1-4DC6-B739-6F80186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D271F-2DDE-44E9-B0BF-4684BEAF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091DF-ABBA-4BAE-ACF7-3C72FCE1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A11AD-ED2E-4CA7-9FC7-D7291A2C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6AD04-5359-4984-8FEA-04D7D12F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915F8-6087-40C4-A2F6-85B5D44C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BFF-410B-4DCB-B07D-91AE3ABD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E6633-149E-4782-925F-B1CAEED8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F7AE6-BCC4-4ECF-9454-45D1115C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BFA4B-8F92-45E3-B900-927BEB0D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246BC-882E-43F3-8EAC-9A1397BB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EE56F-37D3-4107-97C0-D8AF316A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D9E20-D6E8-497C-9128-03857E26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8F125-E87B-462A-BFB2-000450B2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48730-6FFB-4848-AEF6-7437B6E1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B6A77-4D04-4CE6-B8EA-E632657B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4B2F0-269C-435B-94B5-EBEFD52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1E33-AD57-4FEC-8342-6F869ADD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3A12E-936D-488F-8EA0-3D067D54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54B06-A14B-4E06-AFF8-EE0B8034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ECFD9-808E-45B2-B6AD-FD603A44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F821C-02A9-4813-9F16-A8DCA524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FEF12-4BD2-46F1-8BFA-540BF1B2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16CDB-0A31-46B4-8273-7B4D112E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28A7F-E4B2-45E5-99C5-742F3163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2A6B7-7A60-4B77-A52F-654E615D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6A0AE-61A6-49C8-9FC4-55798F76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09D5F-CCE2-43FA-84E6-85CB31F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C0EC-1F6A-47BE-AB68-9EDDAC9B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B3992-F1AA-43D2-8F73-FF1FD97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7A183-CCF2-46E8-8BC2-B6BCBD68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0219A-A776-4C5E-BC54-8D031C74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E8852-1681-4CF8-A3A9-F2B36D61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3A624-29FF-4232-985F-31F8E1E6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C87BB-0E34-49D3-B076-2A9DC604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497B7-C8D0-4837-9DE2-014EF4C8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CC955-43E2-4500-91D2-C3D7843B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CE7A8-EA14-4381-90BF-BF0B01C3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3972B-5D56-4030-8B38-C6F15806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9670-12FD-4374-B642-D956F038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9CC18-BCA2-4F35-B260-E34B26A5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70E9A-14AF-49E2-BD81-A7830C7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B1363-D052-4071-B44C-8D93AB5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09A65-1B86-464C-92DF-469A50E1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87083-B657-49B9-945D-4172C591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CF829-4BEE-407E-9F50-56419225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48A89-232C-4F2A-9991-B4F067FB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FE366-C098-49E2-AF9D-E413D0A6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E7205-5EC7-461A-91BD-249886AC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B8DC3-DCC4-4157-96C0-59195732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927E-9FAF-423B-AAEE-5281D927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46F94-C88D-4261-91CE-18058221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54545-48EB-4A10-9FA5-E13FA53C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72DC7-AD17-4C80-8993-F9981EDD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E28AF-2D29-48E2-A1A9-C74C077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FBC1B-A8AC-4DD4-93F2-FBB6246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4E5D1-BC13-4AB6-9BF7-D1EC10A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FC557-26A9-4E00-B5CA-A0D053B4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8D2F7-AF18-46AA-B260-05E15E2D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23D4D-CEAD-4FD8-AEF7-A8D22B5B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60EC7-4072-4ADF-92FF-95A4F331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A06C-163F-440F-AB6B-E56186F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3F02D-C253-499F-80C9-BD09AF84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BAA19-41F4-491C-AFE5-24DCD612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19FBC-4A83-48FE-8DF6-900833DD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3CA4F-C362-4B8B-8B91-A2C140CC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D62A8-65F0-4A1B-A8A2-ED5B3B40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3DEB8-71E6-4186-A1A3-770516FD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C9DD6-6AB6-47A6-9DC7-19E4C965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6114C-8543-4E9E-BED3-97D2EA51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AAA59-9B00-4F41-BF56-583F455C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B415A-7634-4254-8487-55057DD4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42E2-12E3-4CB2-A269-9D6C2A5D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3E965-7F17-4CFF-A1A4-5554A168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F886C-60B4-43C6-9B36-E110FC24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42005-115E-43F6-87E6-FBCA3D75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F70C2-81F6-4A0C-BE5E-64407E15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7FC31-B266-41A1-855C-B450B690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D5DA7-FA9A-4B83-9327-1840B19E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13E15-431C-4E1A-AD1F-65E3BD69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D5F7A-C58E-452A-9B67-97F7226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185A9-8679-4D8F-B74F-7C5F07A5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EF6FF8-9499-46A8-91A5-7CA4956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A9EC-C87B-4C5E-9985-5C90DE4F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6E8BC-BB25-43F4-A7DF-ED0DB92F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64085-EBF5-4FF2-9D02-9075366F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91AC2-B27F-465F-B2A3-1F0775A0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5B5AA-966C-4635-B4B8-67589388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4BF65-1546-48FE-96F8-A74056CE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D3A4C-E77B-4EC4-BD92-ECF2104B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D115A-D02D-434F-8528-C36E152C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5B045-5D0C-4583-82AC-49A3B276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41358D-229A-487F-BABD-8D37914C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9CC7A-866F-46DD-B6F6-2E02BD64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CAD-23CD-4999-980B-55A3C378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F448-A599-4B7F-A57E-3A841157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9F051-ED9D-4210-A345-C977EC45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79A316-0894-47B0-84DE-98215718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0998C-B835-4C3B-BB9C-59077D6C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1922A-5371-47D0-9487-C69715FC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F18F0-4263-4329-B246-F48FFD79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D1CB4-2AA2-46EF-82C9-B831CB19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1FA6B9-722F-44EC-94A4-C7D864AE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A3A06-550F-4650-9B9F-3679B5CC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C0B95-203A-480C-BFE7-1161F51B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10CBD-12CD-4B2F-BFB8-55ACD971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6A1C-4BD5-40BB-8E0D-3A2D98E7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2C743-5616-4274-BBDD-707479A3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EA8E6-85E6-400F-A613-CC7C4B8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39D30-1B15-4647-8DD4-52B108A2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C68F7-CE84-4893-A94A-1A89D535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EE5E4-30FA-4032-9AAF-5EEBD17A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596DF-A3A1-461A-A1B6-45568A44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8C2E2-BDC9-4BEA-B514-3FB8B0E7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D10EB-326D-4714-8FE8-9B212ADA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0FF9C-6E49-4752-9201-89A30731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3C78DC-5F34-4D81-B71F-D01053BA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D4B4-DC0D-4DB0-BCAF-890FB9F4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3C3F2-1AA3-42B1-90CC-6047CB46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D897A-423E-4103-8FC7-609784A9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007CE-ABC8-4EE3-B26F-7618C612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411D4-49DD-4F43-859C-D1AF2536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F628C-FBD1-4A70-A88E-1677A17C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73054-1B96-46B4-A4D6-03D205B5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724BB-620F-4CD3-B718-29CC83FA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8B890-6165-4F50-9AA4-8CEB7045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859F0E-3AFC-49B4-8A25-69459F73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62E0E9-7F60-4614-A1F7-E84295DB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975C-3188-4E8C-9D36-8C9852C7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53461-0CA7-423B-8F12-4DFE331E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5EC1E-8ADF-4B5F-A29C-38BA69A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C1853-E7B6-4D7A-9929-AA6B17AD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6BC65-AE42-4DAA-9542-F24CB116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B67EB-90DE-4182-AD37-81123F6D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3A4F6-D24C-4B80-8515-5B1B0AD1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988C0-C2F4-4385-870F-1801FEA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329D0-3EAE-4DB5-9637-3312877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E99B9E-A65E-407A-B8F0-97FBAF07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7D634-4AC1-47ED-92DA-1B130074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2FA1-4C01-4E1D-885B-1F59456E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1195B-E6D5-4B33-A654-711255C8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1818A-948D-413D-8CFF-87A8B386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54C30B-7130-4A5B-BC3D-FAB13013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B5489-F527-4195-AB8B-EC1410E7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96E27-22B9-4E25-B8F0-7E61CC4D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310B74-C957-4E5B-8E5B-4170987F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170700-CEB5-4F3E-9408-CE3BA632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4DC62F-C215-4627-B8DA-011F6F0D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843CA-6DD9-4003-A3AC-87B9B46E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9B35E-C196-4CB1-BAC6-1855EA1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7DF9-CCC6-4BCB-AD29-2E806295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FCE9EE-7506-4A48-A757-98F18B5D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2285E-034C-4F90-9AD5-222949A9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40AAB-3113-4729-B32F-00F73757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5025-01A5-4FF5-A7FD-3B16C628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6B6A-825C-4F7F-B326-0DAD223A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15E4-3CEF-4BA2-B2C2-26961939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3977-102F-40B6-80FD-CCE0BFD2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F8E-0119-4F85-890A-7E7E8E51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29BE-6837-4D03-BAA4-CF6E8F5B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28CF-BFFD-4F73-87E6-4EE43543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4C46-463A-43DC-9D15-A171C26D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DB2A-DABD-4CCC-AA72-58343CE0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30DB-A773-4C15-AFC2-C673C4D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37A5-C7DA-4620-BD48-62639F4C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2F69-BFC0-4324-ACB2-ADB9C6AC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3772-7942-454B-9064-51A421E0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4643-A8DB-4001-A3EA-7E12767F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9BADD-C1CB-4FF6-A780-B1B532D4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D4A-EECF-4ECF-B6C0-271A74F2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1390-9B42-40BE-A453-CCEF0A6E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E6F4-5D42-4729-8E70-996C029F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5E51-25EA-4856-BA5C-83CFE1A1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0395-E13A-40FC-ADCE-ACDD0C61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5391-AB60-40A5-B341-2FADE23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E91A-435A-45EB-AA68-B91B9BC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759A8-9262-417F-AB3F-A19717E3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1410-78E7-4BAD-B78F-4DC7E521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D06B-ADD7-4391-962D-A820CF3E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0F070-8B7C-40A8-B782-306E236A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585-8D22-4CE3-9F9D-F52B02AF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9FB1-EE68-4F9A-BD64-9668B3C5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B7629-54C4-4FCC-A6DE-57C76914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8FEA3-B901-40DB-A688-2923BB51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10FE-297A-496E-93DD-A8B56B03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D589-2288-4881-93D0-76C12642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9325D-45C7-4495-ABC9-B3848E7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A35C1-9277-432B-A6FB-334A2290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0418-F44F-4AEF-A5E4-7FF771C3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A22D5-3BA6-43DF-B9C8-EA6E23E8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9040F-E231-4383-BD89-AB682A7C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EC4-F676-4F0C-AC00-E2BA4A77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90B10-A76D-4F0F-B720-2F08C378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4B9EC-45A5-4324-B1C7-FAC7F2D1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E469F-2254-474E-9AA5-1DAB455F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BCC8-DA93-45DD-B33E-57EC76C6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2515-9A0D-4A16-9AE0-CAC9F863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DED70-4D7D-48B4-A000-A906F2EF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3F81C-EAC1-4F53-9321-F411E7D5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467E3-CB9A-480A-970F-E7D0CF5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B399D-9D71-4B4C-9738-F2E74C33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D13BB-3526-410A-93B0-907B52C4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187-12BC-49F0-9CA3-6213D6C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8F49-79DE-4E92-A891-0E7B5D5F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3064-37EE-4EEA-8767-E87EE173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CCE13-8D62-4E64-9EE3-3293D1A0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63F31-C816-4B86-B495-6B623570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EA8E-316D-4407-8EF5-E7C69ACC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4FE01-01D4-431C-A718-EA5EC8C4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97CE-0BC8-464F-8DB4-87FE3375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130EE-9B1D-4A3A-AA74-5A5FF64E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BA23B-CD9A-4FBB-A9E5-4DF9DACB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1210-9465-49FF-8C86-20987128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026-2C5F-4D58-BF1A-963CE17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82787-5788-4CAA-9B47-2B2F0E9F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38C30-FB4B-4856-9FEC-AF64551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6931D-A8D3-4100-9050-5B6C84B6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36C86-EA4B-44BA-A1C9-DD4B9D97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B941-39CF-4942-AC6B-5908EA7F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FB48B-723C-4CFD-BA56-686B10CF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EB04A-8261-436E-9524-56654B55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F9B84-4BA2-49C7-A01E-28687310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DDD7F-1D6C-40AF-9A05-4E6F23A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1E6EC-00E6-462D-BAA0-C0F3DE75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992-4140-4CD4-8BE1-E1DCD8C4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4EFE0-3E6A-486B-9AEC-F74F242E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6FEF7-8646-4782-B729-6BFFCFD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39D2E-39CF-4BD3-89A8-D207F74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1374C-A20C-4DEC-A231-018459A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ED1AB-40C6-415A-B566-8BCCC53E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B1ED5-24E0-4EEC-86A7-9BA5D8AC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01E3A-8CE5-454C-9F4F-6BE239B2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CAF15-DED0-4DB0-BDEE-6C116213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A2D10-D5A1-4A54-97EE-8B1001AC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0A540-ACB4-4300-A720-BCBE22A6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6E60-4ECD-43D4-B86F-C4261C0537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917B-9B4A-4DA0-9A6D-109614CF1C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72D-05F8-415A-BCB3-8EBD69B468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26B8-E69F-4FD9-B78B-0BAD04A84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52AC-7E08-4477-BC25-D1925DFEE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6EF1-4F53-4265-AFFE-8C1E3C1411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E9E6-C2D4-410A-BEA0-13EA59026B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398F-53CC-4558-BE4E-756BF1C1B0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FC9D-F428-44FA-8510-D8D4FA240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DDC3-003C-4C25-8F12-625C3952C1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278-EF4E-4552-9F3B-50433B019D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59B2-E810-4976-8136-774F645E4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1C0A-6E59-426C-A608-82B502AC3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F58B-C641-4451-BA4E-24E98105E3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BE9A-58C7-4C51-9B90-B7C553453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8D15-FF69-4707-AECB-088F19E6A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5A9E-9EBB-4403-A6AC-3AEDB9F6D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7AB1-8A79-430E-9E96-B28EB97A4E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AB23-9D4A-46D8-839E-F0E72249F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F80D-2F4C-456B-A69F-6B84E066E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8583-BDD0-4622-97C5-73F66B2D1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B96C-96AB-49E2-93B4-CD98AB50C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A112-32FB-4477-BA95-EEA11C93D6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2B11-FAD4-46E6-AADE-3D138DEB7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D135-4136-4F06-89DB-485AD3F6B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67E6-7A24-4C94-80CE-5ED1F2AAF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7C50-6CA2-474E-B25E-DFF69C390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80CE-F513-4726-9A2E-4DBA43E9D3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B18F-491A-4682-BA2A-C752F5039B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D08A-BC66-4F5D-8572-1C46761E4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8DC2-21B2-4120-812A-B80DA46F9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9307-38D7-4B33-9076-AA4D7B1DA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3F2-492B-4502-9934-CACCC20C3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9AC1-C3AE-4AC5-9641-BB75258403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9E8F-425E-4C36-A402-3C1F26EB26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195B-F8AE-4D1F-A75B-AFF3314A28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1D29-F037-4536-93B4-3C30150AC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33D1-6DF7-4FEA-9C11-78990C923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52C9-C71D-4872-B853-D3DDBC28DB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512C-077D-465D-9C18-3714E74BFF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76600" y="3214800"/>
            <a:ext cx="37908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7600" y="1204920"/>
            <a:ext cx="8848800" cy="4448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059280" y="2421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003640" y="2852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284720" y="321300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300720" y="3213000"/>
            <a:ext cx="79236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067280" y="357336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12000" y="364500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771640" y="4479840"/>
            <a:ext cx="151308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2354400" y="5272200"/>
            <a:ext cx="1512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333360" y="2200320"/>
            <a:ext cx="8477280" cy="24573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9411" descr=""/>
          <p:cNvPicPr/>
          <p:nvPr/>
        </p:nvPicPr>
        <p:blipFill>
          <a:blip r:embed="rId2"/>
          <a:stretch/>
        </p:blipFill>
        <p:spPr>
          <a:xfrm>
            <a:off x="892080" y="2652840"/>
            <a:ext cx="7972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838080" y="947880"/>
            <a:ext cx="7467840" cy="4962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403280" y="2824200"/>
            <a:ext cx="1944720" cy="820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4859280" y="2637000"/>
            <a:ext cx="2521080" cy="1079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973240" y="54878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278320" y="54738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7567560" y="547380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5:4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